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F494C-734C-4C76-82EE-06B9CC495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B41CF-1520-49BC-8AA0-7F2724958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132F9-2912-4F3D-9DD3-C02C44AD7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2147F-5F04-4DB5-820B-A2A9F1446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9828C-0E4D-4224-AF7C-93AB6B45E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C0BBB-D71C-4706-A1BA-DB045C5F4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5C155-4712-4D79-BD83-0534204C0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056D0-09B8-41F9-AEC6-A537C8A8E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F1231-5D4C-4663-A1D9-4DCFD1C89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07C9A-82D0-4615-874C-8F0AD8E2E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43109-B42B-421E-9DF1-EB5475368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A8D8-B1BC-4972-ADD2-6052E1279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A626-0C98-4C5A-B453-2AB79F7CC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contrast="6000"/>
          </a:blip>
          <a:stretch/>
        </p:blipFill>
        <p:spPr>
          <a:xfrm>
            <a:off x="0" y="0"/>
            <a:ext cx="9144000" cy="69278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a Uruguai</a:t>
            </a:r>
            <a:endParaRPr b="0" lang="en-US" sz="4400" spc="-1" strike="noStrike">
              <a:solidFill>
                <a:srgbClr val="000000"/>
              </a:solidFill>
              <a:latin typeface="Arial"/>
            </a:endParaRPr>
          </a:p>
        </p:txBody>
      </p:sp>
      <p:sp>
        <p:nvSpPr>
          <p:cNvPr id="43" name="PlaceHolder 2"/>
          <p:cNvSpPr>
            <a:spLocks noGrp="1"/>
          </p:cNvSpPr>
          <p:nvPr>
            <p:ph/>
          </p:nvPr>
        </p:nvSpPr>
        <p:spPr>
          <a:xfrm>
            <a:off x="25092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a do Uruguai. A agricultura (trigo, milho, girassol, linho, algodão, beterraba açúcar) e pecuária (bovinos, ovinos) são os recursos fundamentais da economia.</a:t>
            </a:r>
            <a:br>
              <a:rPr sz="3200"/>
            </a:br>
            <a:r>
              <a:rPr b="0" lang="en-US" sz="3200" spc="-1" strike="noStrike">
                <a:solidFill>
                  <a:srgbClr val="ffffff"/>
                </a:solidFill>
                <a:latin typeface="Arial"/>
              </a:rPr>
              <a:t>As indústrias principais são as de papel e cartão, química, fertilizantes, álcool, cimento e de refino de petróleo. Os recursos minerais e energéticos são escass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4500720" cy="3375000"/>
          </a:xfrm>
          <a:prstGeom prst="rect">
            <a:avLst/>
          </a:prstGeom>
          <a:ln w="0">
            <a:noFill/>
          </a:ln>
        </p:spPr>
      </p:pic>
      <p:pic>
        <p:nvPicPr>
          <p:cNvPr id="47" name="" descr=""/>
          <p:cNvPicPr/>
          <p:nvPr/>
        </p:nvPicPr>
        <p:blipFill>
          <a:blip r:embed="rId2"/>
          <a:stretch/>
        </p:blipFill>
        <p:spPr>
          <a:xfrm>
            <a:off x="4500720" y="0"/>
            <a:ext cx="4643280" cy="3357720"/>
          </a:xfrm>
          <a:prstGeom prst="rect">
            <a:avLst/>
          </a:prstGeom>
          <a:ln w="0">
            <a:noFill/>
          </a:ln>
        </p:spPr>
      </p:pic>
      <p:pic>
        <p:nvPicPr>
          <p:cNvPr id="48" name="" descr=""/>
          <p:cNvPicPr/>
          <p:nvPr/>
        </p:nvPicPr>
        <p:blipFill>
          <a:blip r:embed="rId3"/>
          <a:stretch/>
        </p:blipFill>
        <p:spPr>
          <a:xfrm>
            <a:off x="0" y="3357720"/>
            <a:ext cx="4500720" cy="3500280"/>
          </a:xfrm>
          <a:prstGeom prst="rect">
            <a:avLst/>
          </a:prstGeom>
          <a:ln w="0">
            <a:noFill/>
          </a:ln>
        </p:spPr>
      </p:pic>
      <p:pic>
        <p:nvPicPr>
          <p:cNvPr id="49" name="" descr=""/>
          <p:cNvPicPr/>
          <p:nvPr/>
        </p:nvPicPr>
        <p:blipFill>
          <a:blip r:embed="rId4"/>
          <a:stretch/>
        </p:blipFill>
        <p:spPr>
          <a:xfrm>
            <a:off x="4500720" y="3357720"/>
            <a:ext cx="4643280" cy="35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grafia</a:t>
            </a:r>
            <a:endParaRPr b="0" lang="en-US" sz="4400" spc="-1" strike="noStrike">
              <a:solidFill>
                <a:srgbClr val="000000"/>
              </a:solidFill>
              <a:latin typeface="Arial"/>
            </a:endParaRPr>
          </a:p>
        </p:txBody>
      </p:sp>
      <p:sp>
        <p:nvSpPr>
          <p:cNvPr id="52"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 Uruguai É o segundo menor País da América do Sul EA SUA Paisagem É constituída Principalmente Por Planícies e Colinas Baixas (coxilhas), com Uma Planície Costeira fértil. A terra ocupada ESTÁ NA SUA Maior parte Por pradarias, ideais Para a Criação de bovinos e ovinos. O Ponto Mais Elevado do Pais e o Cerro Catedral, com 514 m. Ao sul situações-se o Rio de la Plata (rio da Prata), Onde está o Porto de Montevidéu. O Rio da Prata É o Estuário formado Pelo rio Uruguai, Que constitui um Fronteira ocidental do País, e Pelo rio Paraná, as instâncias do Uruguai, formador da mesopotâmia argentina. O País UM TEM Apenas Importante Que o rio atravessa, o rio Negro, com hidrelétricas. Tem Ainda parte da Lagoa Mirim, Que divide com o Brasil e de ALGUMAS Lagoas na Costa do Atlânt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m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clima temperado do Uruguai é, relativamente Mas Quente, visto Que temperaturas negativas, bastante Freqüentes NAS Noites de inverno, descem Não Muito Abaixo de zero, enquanto OS Amenos São verões sem extremo sul do país (Nas regiões de Montevidéu e de Punta Del Este ), tornando-se em Mais Quentes Direção AO norte. O terreno FICA Plano de certo modo vulnerável uma Rápidas Mudanças NAS frentes meteorológicas pampeiro AO e também, vento frio e ocasionalmente violento hum Que sopra parágrafo Desde norte das Planícies como pampas nd Argentina.</a:t>
            </a:r>
            <a:br>
              <a:rPr sz="1800"/>
            </a:br>
            <a:br>
              <a:rPr sz="1800"/>
            </a:br>
            <a:r>
              <a:rPr b="0" lang="pt-BR" sz="1800" spc="-1" strike="noStrike">
                <a:solidFill>
                  <a:srgbClr val="ffffff"/>
                </a:solidFill>
                <a:latin typeface="Arial"/>
              </a:rPr>
              <a:t>A temperatura média anual varia dos 16 ° C em Montevidéu EAo 19,5 ° C em Salto e Artigas, EA precipitação média anual varia dos 1,000 milímetros no sul do País EAo 1,400 milímetros sem norte. Em Montevidéu, o MÊS Mais Quente e janeiro, com temperatura média de 22 ° C, enquanto o MÊS Mais frio e julho, com média de 10 ° C. Como a Máxima e Mínima Informações por temperaturas registradas não São País de 44 ° C, em Paysandú (em 20 de janeiro de 1943), e de -11 ° C, em Melo em 14 de junho de 1967. [9] Como geadas São Bastante Freqüentes No inverno, Mas uma queda de neve registrou-se em ocasiões esparsas Apenas mui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grafia</a:t>
            </a:r>
            <a:endParaRPr b="0" lang="en-US" sz="4400" spc="-1" strike="noStrike">
              <a:solidFill>
                <a:srgbClr val="000000"/>
              </a:solidFill>
              <a:latin typeface="Arial"/>
            </a:endParaRPr>
          </a:p>
        </p:txBody>
      </p:sp>
      <p:sp>
        <p:nvSpPr>
          <p:cNvPr id="57" name="PlaceHolder 2"/>
          <p:cNvSpPr>
            <a:spLocks noGrp="1"/>
          </p:cNvSpPr>
          <p:nvPr>
            <p:ph/>
          </p:nvPr>
        </p:nvSpPr>
        <p:spPr>
          <a:xfrm>
            <a:off x="-360" y="1844280"/>
            <a:ext cx="3924360" cy="459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OS resultados do Último Segundo censo de 2004, a População Uruguaia Ascendia a 3 241 203 habitantes, com Uma Taxa de crescimento anual de 3,2% em Relação AO censo de 1996, Onde era uma População de 3 163 763. A baixa taxa de Crescimento populacional observada Entre 1996 e 2004 E ainda inferior à Registrada entre 1985 e 1996, Quando era uma taxa de 6,4%. O Baixo Crescimento da População Correspondência A uma diminuição progressiva da taxa de fecundidade e nsa migratórios cambios. A população estimada para 30 de junho de 2010 e de 3 356 584, com densidade demográfica Uma de 19 habitantes Por quilometro quadrado </a:t>
            </a:r>
            <a:endParaRPr b="0" lang="en-US" sz="1600" spc="-1" strike="noStrike">
              <a:solidFill>
                <a:srgbClr val="000000"/>
              </a:solidFill>
              <a:latin typeface="Arial"/>
            </a:endParaRPr>
          </a:p>
        </p:txBody>
      </p:sp>
      <p:grpSp>
        <p:nvGrpSpPr>
          <p:cNvPr id="58" name=""/>
          <p:cNvGrpSpPr/>
          <p:nvPr/>
        </p:nvGrpSpPr>
        <p:grpSpPr>
          <a:xfrm>
            <a:off x="4211640" y="1989000"/>
            <a:ext cx="4537080" cy="3861000"/>
            <a:chOff x="4211640" y="1989000"/>
            <a:chExt cx="4537080" cy="3861000"/>
          </a:xfrm>
        </p:grpSpPr>
        <p:pic>
          <p:nvPicPr>
            <p:cNvPr id="59" name="" descr=""/>
            <p:cNvPicPr/>
            <p:nvPr/>
          </p:nvPicPr>
          <p:blipFill>
            <a:blip r:embed="rId1"/>
            <a:stretch/>
          </p:blipFill>
          <p:spPr>
            <a:xfrm>
              <a:off x="4211640" y="1989000"/>
              <a:ext cx="4537080" cy="3861000"/>
            </a:xfrm>
            <a:prstGeom prst="rect">
              <a:avLst/>
            </a:prstGeom>
            <a:ln w="0">
              <a:noFill/>
            </a:ln>
          </p:spPr>
        </p:pic>
        <p:sp>
          <p:nvSpPr>
            <p:cNvPr id="60" name=""/>
            <p:cNvSpPr txBox="1"/>
            <p:nvPr/>
          </p:nvSpPr>
          <p:spPr>
            <a:xfrm>
              <a:off x="4211640" y="1989000"/>
              <a:ext cx="4537080" cy="38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16:52:54Z</dcterms:created>
  <dc:creator>SEDMS</dc:creator>
  <dc:description/>
  <dc:language>en-US</dc:language>
  <cp:lastModifiedBy>SEDMS</cp:lastModifiedBy>
  <dcterms:modified xsi:type="dcterms:W3CDTF">2010-08-16T20:51:29Z</dcterms:modified>
  <cp:revision>3</cp:revision>
  <dc:subject/>
  <dc:title>Slide 1</dc:title>
</cp:coreProperties>
</file>